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18E-7314-4A40-AECF-D3510B20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5BA-8FBE-40F7-925F-9B7F8E05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F2F23-165F-40E0-B8E3-20BE8D22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A1114-8F10-4D34-87BA-A2B39C40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61053-86E3-4A8E-9926-2EE29156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1ABB5-4FF6-442E-9CA9-24485EA0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C200A-927A-44AF-8213-5CF0476D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13FFE-B9FC-4471-BF5C-6EDA16B2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D45AA-1762-49AD-A772-6C9B6A8E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73080-551A-4865-80C2-548E8D5E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5EFC1-1573-41FB-9CA3-CA7B0D26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3716C-825C-4FF0-8FFB-E07FA0A5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736-1FB6-4B34-8823-470E5562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C58EB-91B6-4381-9A67-5F69533C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2276B-209D-4412-8056-4102BDF1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A0913-C076-45F2-AF2B-8546AD81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5C620-42F8-463B-83D0-774F6A1C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C5F21-7404-4F6C-BB0C-22A70FFD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6ADB2-6066-40E5-8604-09E85CC6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DB25F-B530-47CC-BF09-7D1DC874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2CEAB-F633-494A-8B38-C835F0E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7E7F0-3A42-418E-8B1F-927F77C6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BB262-5765-4719-9AFC-755E6889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C4C-A76B-4960-929C-2FD58663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5944C-09C1-4242-B53F-9B0B5891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2E5CA-BB4D-4A0C-8C64-6D970859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50CE6-3889-4CD5-892C-BDC4FD8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DE8EC-958C-449F-B8E4-D8DC242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22759-2E68-40F9-862E-FF3123B3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CE51A-F30C-4B84-A19A-DBA045A5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895D2-51DA-4DCA-B5E2-665426B5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38F8A-0AFC-44CA-899D-3618C0B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3ABE7-210F-4061-9771-CDCF63F3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2BD52-1211-487C-A238-9CBE3CE1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8588-AA45-43CD-B204-34F91147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DAA3C-D975-488B-BB73-388A169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C2494-4FF1-4610-8124-57D8B5F9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E7AF2-A62F-497C-A7B4-F9361926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F92BA-E2FC-408D-BC81-2CAB5BC6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F75DE-A87C-4146-A45D-0E7DEA8B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BBE25-6574-417D-917A-C5F66A38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B7606-A658-4EE6-A4F7-D158DF2D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5D1F3-945A-408E-BAD3-E85E769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D8FCE-6864-4371-B1FB-6C664A7C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3E93A-6158-4FA4-9079-ADAB39B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2829-E300-413F-B650-51CC7DCA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7D9B7-C60F-4B3F-9779-06DBB28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F3424-D80A-4DC4-BCA3-5712DA3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2EE96-5B5B-43A1-A89C-F2B3DE4C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F423D-0ADD-4964-813F-217C4585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EF6C8-921D-496C-8EB9-8C617EEC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43FC5-9089-4D22-9E56-0CF01EA9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DBD64-2D52-45E1-AC95-1758901E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4B715-2737-41D4-BEDF-B18B8DD3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1C729-45DD-476B-9013-0228E96E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6E848-92ED-4D9A-BDA1-5052FE43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0A15-5CD8-4185-86FC-C0236411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AEAEB-1DC7-468E-A332-ED10E2EC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635CF-4AD3-46F4-B97E-722C33D8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B8E1F-5901-4FC3-A4F9-6ABF70E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7CCA1-9F03-48BA-958A-51145369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E6B7B-1C2F-4597-A841-80BD0D96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7ED46-BB14-4CDF-85E8-1B67B8E4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6E9B8-E202-41A7-A03A-0E997FE5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6F0C7-4B0C-4F4B-BC41-E2A19501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8E4FC-4BB7-47E4-85BA-7F85F41D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8A02C-8D07-451E-98C0-C591EBEF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99CE-973E-4244-A281-021FA9AA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69705-FB51-4E1B-A2ED-2F928E7F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1D02E-4210-4413-913D-823788B1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8DEAF-4971-45EC-A1BC-4D7DDAC5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68BAA-DFB7-4E58-BD7F-76F65410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F0C79-C11B-492F-A7CB-073A5C88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BF31E-4D05-4681-A5DC-1B3C069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3D2FD-17A2-4CC9-8B4E-5075A576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8EF04-CDA3-4580-876F-38D55F33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74672-3814-465E-B479-988B08FB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C7829-972E-4F6A-87DE-4425B97F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FC1D-E65F-4E06-840E-14C8A13E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AC5F2-AC8E-46B9-9C8C-85410D7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0EE1C-C805-49BC-BB47-DC97B109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58813-C49E-4908-A5F8-D40FE8BC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59D41-D75C-40DD-BA43-0B246A5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C8A45-ACE5-4654-8694-02E6CF6D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BCA3D-CFB6-4E48-9DC1-E983BAC5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6266B-BAEC-4F86-AB69-B832A8C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99489-D571-449D-95EA-F89057B6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F50D0-11B5-47AF-AA14-859151FB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C49AF-90C9-4C65-BA56-5F5A7CE4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B891-EC53-4F34-83A7-00507857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86AE1-0FDA-413C-8D69-73DFFD8E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D2756-E914-44F2-A1FF-B7288B54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56BD5-A74C-4D25-8548-FEABDAA0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71E76-AA3F-4BC7-88C4-45CA8C3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79AEB-3A30-45F7-83CA-456B428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EC20F-896D-4381-B952-CAAE219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BABC1-A09F-479C-AA92-A43AF5A4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B2FB0-F7AF-477F-A813-1D8E132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FD8B0-A72E-42D3-89DB-B03F2DD1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0CAD5-BBCD-4409-A73D-F1B9C6AD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408B-57FD-4D4C-850A-7231E8C5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DF66DE-29A7-43F2-91A8-55C4D772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4E716-D20A-4337-A2C7-D81978CF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E8F1A-1778-476A-8D8B-8C598D8B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A8DA0-1D3B-4A1A-BA93-D5FFA55D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A1DFC-B1B6-43CD-B50F-1D7AD251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296F6-4F7B-4165-9467-B2C0871D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4342F-725D-4F82-9B0E-CD858D45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FAF37-1430-4BB4-9387-25911368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B828C-822B-4623-AE70-C605CF96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F402A-9AF0-43F3-947F-6ED07CC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0CE-B349-4903-AA05-36717071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5363-890B-47AC-AE3D-861FFC6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E496B-78F7-4114-B363-42D1B8B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8950B-A01A-451C-BB38-7C3F0DA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7CED8-6731-48BE-9096-3CE2D75B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1C788-2692-4BF0-9534-EBD1B573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2A493-EB63-463C-A851-5993A55B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9D204-258C-4AEB-9286-93DD8F75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B8004-7171-4FB9-AAF5-058B87A7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01856-7337-429D-AEC5-22E8B1F4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BF0EB-2F3D-48E4-9271-78D3025B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5CD432-1694-4E6B-9F3B-5AA4C6B2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2C68-C559-4ADC-B5F7-9FC787D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14970-B07F-42F6-A34C-D45C8C84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A2BF9-F380-4050-9415-7D71C0D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421B9-EA0E-494B-8BD5-B89C297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BB3D3-29F0-47FE-800C-39B623BC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45E49-97E5-4521-B549-E38F1199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F42DD-35BD-4CFC-BAB5-A2D7DD32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EB50EE-125A-4444-870C-BB5798BC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71B54-937E-49F1-8A5B-DD46FAC5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6B64B-30FF-4687-A493-830BB2F2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63129F-914E-4AD2-8832-5CD9191C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C7C4-461D-46F9-B46F-07745637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B2CE1-13C3-4FFF-9B83-7F810D88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F80BC-238D-4C44-8BD1-0FB9DBC4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877F6D-BA67-4163-B461-1A3E1C99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019AD8-4025-4196-B8BE-6C6D55F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A5687-BF6C-4D07-9C0B-EF1360F6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30D976-1220-4632-A542-747EFEC9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89208-731A-463F-AF9D-4663C0FB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623ED-9359-4FE4-B02E-C2DBFE1E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B5DDD-DF4B-4D0A-910B-0BE06454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AC540-A724-4FB4-8FA7-83960199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A1B3-2762-4A30-81EB-F37F5CD0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6DA8C3-63CE-4715-ADD4-399DBC3F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9A815-2B93-4300-8899-4FD3958E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E984E-A146-4A55-B7B5-95FC85AF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881B8-CD2B-4687-862A-002B0F00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63CAE-05B5-4C5D-9C4E-05DFA267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1DE90-E473-4662-B45C-9A9BC5F0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471AB-D29A-48A9-AE92-9E11221D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20E720-0E80-47FD-843A-A364EF1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7BBC7-319E-408C-A6AB-791DEA14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FB476-8606-430E-B1C0-0E6DF86A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4F13-9803-484F-B6B0-B4BAEC61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8E663-3486-4110-BB4F-326F8EBC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83B027-0425-4D03-A199-CDFCF847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B8A3FB-21E4-4FB6-966B-B6C0A165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A79587-4F6A-4AEE-9BA2-9E52C861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AC8CF-576A-4F92-9B5F-C293B5F4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50D3E3-D9F6-4182-B95E-D1CDA438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0186D4-0272-4ACE-A519-39AD893C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48B1B-02AB-412D-A33F-41A94CA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6310C-5E17-4D32-A6B9-5A8C98E9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6DB3D-8868-4DBA-A54D-A154BAAE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3CE6-EE79-481E-999A-B3529884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624AB-598E-40BD-B3A7-55D8E2D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50AF1-25DE-424B-8A25-44C6E682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7F3B1-42ED-44F6-903E-ED51188B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D5C8-396C-4338-AB6E-C0E7F910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6A88-C580-471C-BD90-9555CF45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9AE3-A4C1-437E-9EE2-C5AD5115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6949-6536-404A-B2A1-700EB6F7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061-D5D1-495C-8ED8-E5DD2267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25F3-5449-4EEA-856F-55C09F1E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2A18-B472-465C-8C77-711C8B00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0232-8C91-422C-AA9C-3F05829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7BFD-1EFE-41DB-ACDE-39B3DC2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0A93-877D-4383-8472-EE8EE6A8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D6FE-C7AE-48AC-9AB4-86BAC5BE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3926D-7BAD-4467-8573-C0CD219A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4D421-4661-48B9-9A09-83A8407A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2979C-0CD0-456D-9E25-8B8DC04C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D232-549A-4781-8D1E-278D75C4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B8F-5583-4217-AA6A-2052354E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EE89-A7B0-4309-9DE7-84037A8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A9CB-63B6-421B-83AA-C3674DF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5732-DAB3-467B-B19B-146209B1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9D1D-B733-4A72-A359-970DEBFE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7A92-9E4A-4DF5-8AD5-5F66A6A3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4A78-A0FF-4526-87A5-703B9EE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0171-5900-4211-AC44-4800CAD1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8B51B-787C-4BFE-ABE5-FCE2BD55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D7C4-8D4A-4577-BC32-866C3533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CA62-FA6C-45DE-BC80-A8B6C549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F54-1642-4172-BEEF-2153DBB3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224E-B705-4F88-833A-8F4F5D6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9A5E5-923C-42E5-A438-7091ECD6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FA2E6-624A-4E85-9D63-B60DA582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4AD9-07ED-4EF4-B30A-B87A771C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D021A-9BD7-4787-AAF8-E47448CE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7B90B-6D37-4EE2-B41A-A5DA8F0D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5C666-4463-42DC-A7E9-B0C3875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D236-7CD2-48E7-8FCF-CAF8EBFB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FACF4-1C12-46F6-B009-D70A9290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91163-4F4D-4208-95AD-73B86E62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555-5FD1-4909-AFC2-02A2FDC9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53794-92CB-4101-9FC2-C5C72B12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B5C1-7D25-461F-AEDA-F8C08514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3E0C8-BC5F-44FD-BC6F-B92158BF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35399-54BC-4BD4-9B54-9AE20500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C9FC6-1AF2-470B-B0C8-B97513E2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08DFA-D872-463F-BFF3-F377E785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A016C-0DE1-4046-86A2-8A5F4CDE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EC2F6-8FF7-407B-B991-46E5E8C1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DBED-D9D0-4606-B72A-E0697B79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3DE66-ECCF-4FF0-AA70-AB458F0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0F7-42B9-499F-BE24-01A25C35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AB24-806B-420C-A180-4518BA5A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CC92-7DA3-414E-80FD-19874F9D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0FAAA-CC06-4A92-A79B-D71F168C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7B8E0-B8F4-4FA9-9C89-3A120DCF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DC1BB-A591-490F-9BB9-AE8F484B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0A628-2C95-402F-B611-1BB8A7D5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787B-D670-4E58-8620-3522CE2C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417DB-B22C-477D-9073-90AA96F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DA34D-58A7-47CC-B25D-6F12A73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B285D-8DEB-45AA-A3D0-83739304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3C3-DE0F-4EA8-8CE3-E86ABE2C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A8392-E5A1-449C-B111-5171C4D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D88C-0FE9-48B4-99FA-A535761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3A4D3-BA0C-4879-96E8-7A3B0010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B1F87-FC80-482F-B8D0-C46E8F7A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37825-0C99-4B8B-9A7A-0749A916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C2AE3-0353-4998-A38E-13028F3A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87089-E967-4479-BDDC-785312B6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E329A-25F0-4DBF-912F-0394D822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DC05D-B6E3-410F-89B6-A875BE15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5C9E2-DA06-457B-8A75-E6759ED1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4CD-5CB9-4FD8-9679-1FF5BA79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C1C3E-5DBE-446C-8D4B-75BA89C2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A83B-4D88-4B46-BD5E-D11427F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A1840-2832-4876-AFFF-46E29C3F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23EBA-B980-4441-92E3-58B9BB71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D04F1-D4E5-46FE-BE43-71E1D2A7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E4158-F015-49C8-80C2-6F7D9B7F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5B47C-076B-400E-9B5C-B440A4DD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D7CDF-87CC-4C47-9631-A45AF6F5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DFA9D-3D09-49DC-A019-5952644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3267E-8A02-4332-8434-CD2877DB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8582-CF59-41A5-9F84-6B3F4A27C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87A1-AD06-474C-A2F8-9F3A8AE86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7543-D742-491D-9151-DFC4C0A66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9462-1192-4A02-9BD6-E80B6DD06D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1F1-741F-418E-AD46-BD6FC9D07F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119C-F069-44DC-AE15-42DCF9C745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69E9-44C1-43CD-856B-C2708C3FC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3551-6A9C-4E8D-95B1-2A847B4197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65DC-FF99-431B-BBFF-E11C6B7351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61D9-2B91-4317-806A-29DD8AEE7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881B-B948-4297-B645-3B39B85BE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C294-9CA5-4353-9FA7-65B80C99F8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A69A-014F-4407-A937-8C18DF88C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F42-48A1-4C14-8A9A-A969F54493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095B-EF15-45A3-9955-8AF1633CED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DC37-A136-4263-B3E0-5BAAD36A06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50EB-AC97-4413-8B82-8016682A5A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006F-DE5B-4485-A453-A77D39D943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72D8-0141-495B-92D4-4D2F141C18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19EF-5D31-404E-AB8E-DF33F0CB28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890A-F5A0-4FD1-8549-23922ED8B9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B45B-F987-41B2-852E-CF47BD696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2D60-12F2-4F48-9BB7-75AB795102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ECB9-5ED4-4868-8796-624408A12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6C68-0239-480E-A403-80B1332CEF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D6D0-E42D-40F5-AC6D-E2D45B75C7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2CF7-6C6E-4C7B-851D-9B56FB3DC3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BFEC-A6E5-46AB-BCB3-BEDE3A17B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F368-D895-42EB-A785-AD8D591B0C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B173-3ADE-4908-8CC5-F6949E1BC5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DAAC-E62A-4B1E-AD19-473F7ACC45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BEE3-5304-4EAD-A15D-F67C3BF72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A002-D2E8-41D6-B34C-0D79ED5648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D7E8-04B2-4E02-9744-A05EE495EC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D1A9-D2D0-4EDC-985C-E238AC8F70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5616-24A4-4970-9436-59BCC087DD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F28A-EB9D-47FD-833C-58B79FE2C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3A91-1825-4393-9C17-1D339E5A9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59ED-5218-4E05-BD56-A039BAA6F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C63B-F518-4D10-ABFE-2BDE73DB43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0" y="2886120"/>
            <a:ext cx="91440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1047600" y="3138480"/>
            <a:ext cx="70488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277120" cy="557208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1000080" y="2428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1000080" y="48578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447840" y="923760"/>
            <a:ext cx="8248320" cy="501048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1000080" y="928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928800" y="2643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4"/>
          <p:cNvSpPr/>
          <p:nvPr/>
        </p:nvSpPr>
        <p:spPr>
          <a:xfrm>
            <a:off x="1000080" y="42148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76280" y="1628640"/>
            <a:ext cx="8191440" cy="360072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428840" y="207180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3711600" y="2832120"/>
            <a:ext cx="128916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6858000" y="3214800"/>
            <a:ext cx="92880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3843360" y="4046400"/>
            <a:ext cx="146052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4429080" y="4857840"/>
            <a:ext cx="121464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571680" y="689040"/>
            <a:ext cx="8086680" cy="605772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1428840" y="150012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2643120" y="150012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4071960" y="1500120"/>
            <a:ext cx="6429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5643720" y="2714760"/>
            <a:ext cx="10713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7215120" y="271476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3643200" y="3500280"/>
            <a:ext cx="1500480" cy="351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"/>
          <p:cNvSpPr/>
          <p:nvPr/>
        </p:nvSpPr>
        <p:spPr>
          <a:xfrm>
            <a:off x="5857920" y="3500280"/>
            <a:ext cx="714240" cy="30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9"/>
          <p:cNvSpPr/>
          <p:nvPr/>
        </p:nvSpPr>
        <p:spPr>
          <a:xfrm>
            <a:off x="2357280" y="4714920"/>
            <a:ext cx="135756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0"/>
          <p:cNvSpPr/>
          <p:nvPr/>
        </p:nvSpPr>
        <p:spPr>
          <a:xfrm>
            <a:off x="4307040" y="4735440"/>
            <a:ext cx="85716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1"/>
          <p:cNvSpPr/>
          <p:nvPr/>
        </p:nvSpPr>
        <p:spPr>
          <a:xfrm>
            <a:off x="1857240" y="5929200"/>
            <a:ext cx="10717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2"/>
          <p:cNvSpPr/>
          <p:nvPr/>
        </p:nvSpPr>
        <p:spPr>
          <a:xfrm>
            <a:off x="5357880" y="5929200"/>
            <a:ext cx="7858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3"/>
          <p:cNvSpPr/>
          <p:nvPr/>
        </p:nvSpPr>
        <p:spPr>
          <a:xfrm>
            <a:off x="857160" y="6357960"/>
            <a:ext cx="7858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57200" y="847800"/>
            <a:ext cx="8229600" cy="516240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5929200" y="3571920"/>
            <a:ext cx="40824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3387600" y="4402080"/>
            <a:ext cx="40824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6572160" y="4786200"/>
            <a:ext cx="40824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1643040" y="5572080"/>
            <a:ext cx="4078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552600" y="752400"/>
            <a:ext cx="8038800" cy="535320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2357280" y="1928880"/>
            <a:ext cx="40824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2:0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